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explode.wav" ContentType="audio/x-wav"/>
  <Override PartName="/ppt/media/image6.png" ContentType="image/pn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071C-CD99-425B-9515-A353AA20B9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BD05-1F74-461B-905B-39B116DB30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4CD-CB8C-4C7A-A803-FE9CDCC7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DFF-077D-41A5-99A6-28B01EB5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DCD-8273-4B30-B317-BF9F7D87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395-1ED3-4C82-8D23-5C03FF69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51DB-81E4-4627-9EA8-C6A8D952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93CE-B24E-4FBE-A88A-F19F022A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0047-B4F6-43BA-A3C6-C2EB3060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2997-B696-4E19-9618-70CA1C3E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2D9A-53E2-4C4A-B307-A55197F5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8021-B61E-41C2-A19F-BB88C1EC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F48E-A957-43CB-AD5B-4500641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C6A-8FF8-4C84-910E-4E5DE350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D4ED-1925-416E-9EA1-B833BD84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F0B1-B98D-4B38-9ED3-814A9EE8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6DDA-6E8B-44C6-BE4D-C0C3BE1F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58CA-BDBA-44B6-AA7C-19F743A4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10AF-0CC6-4FA8-A1B4-6AA70756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A2E-7DB0-42DE-9E36-F500A05F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14B-65BD-4CEF-B3C2-27861DBB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D78-E312-40D4-A334-5035F15F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951-483E-474A-B08A-3A69374B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85C-1E2E-426F-BEDB-1CE872E8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7F1-7549-4EA7-A870-AF5DFFC9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178-CE13-4CA9-8B55-7DB84A5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B612-ADF4-49DC-8F24-7E8B08E8283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F515-FAE5-4932-AB39-6F70B96054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D96F-33E8-40CA-9717-C6F5DA33EFFA}" type="datetime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E76C-604E-4416-B09D-B21CF8030D16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B998-293F-4795-8005-35CDE08393E5}" type="datetime">
              <a:rPr b="0" lang="en-GB" sz="1400" spc="-1" strike="noStrike">
                <a:solidFill>
                  <a:srgbClr val="1c1c1c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87AF-E6B0-464A-9A4E-E1DF11228331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tler's 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191120" y="2971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How Hitler Transformed the German Econo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52280" y="5486400"/>
            <a:ext cx="27432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By Mr Wal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http://gcsehistory.cjb.net</a:t>
            </a:r>
            <a:br>
              <a:rPr sz="1800"/>
            </a:br>
            <a:r>
              <a:rPr b="0" lang="en-GB" sz="1400" spc="-1" strike="noStrike">
                <a:solidFill>
                  <a:srgbClr val="ff0000"/>
                </a:solidFill>
                <a:latin typeface="Tahoma"/>
              </a:rPr>
              <a:t>www.SchoolHistory.co.u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0" descr="C:\My Documents\My Pictures\hitler.gif"/>
          <p:cNvPicPr/>
          <p:nvPr/>
        </p:nvPicPr>
        <p:blipFill>
          <a:blip r:embed="rId1"/>
          <a:stretch/>
        </p:blipFill>
        <p:spPr>
          <a:xfrm>
            <a:off x="4343400" y="41148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3D7F-07B2-49D3-BFE1-85C41C3CBE71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732B-1AFD-40D1-8B58-034D56571C8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ere people better off under the Naz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employment fell everywhere not just in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people were forced to work on public wor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were disadvantages to SDA and KDF – workers had no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ers put more into the economy than they go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you were “Aryan” and of no strong political beliefs life was relatively g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4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A007-4B29-4748-A23D-A556A65AE13E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9FE0-879A-4C75-A1E1-C2BB603AE71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a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Research a short case study factfile on Hjalmar Schacht and Herman Go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Following further research answer the question, Was Nazi economic policy a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C:\My Documents\My Pictures\swastika.gif"/>
          <p:cNvPicPr/>
          <p:nvPr/>
        </p:nvPicPr>
        <p:blipFill>
          <a:blip r:embed="rId1"/>
          <a:stretch/>
        </p:blipFill>
        <p:spPr>
          <a:xfrm>
            <a:off x="1600200" y="2362320"/>
            <a:ext cx="3389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5610-04CA-4A80-BB29-027052A72E7F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E122-315E-4797-B680-AC6A2A352559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 Hitler’s priorities on coming to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aluate the Schacht period of economic management 1933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 the importance of Goering and the 4 year Plan 1936-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aluate the success or otherwise of Nazi economic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BB75-CD7A-4812-94E8-63F192B1D19E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9028-AB44-491B-95A2-6E8056389B8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n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uring the election campaigns Hitler had promised to solve unemployment. This was only one of his ai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C:\My Documents\My Pictures\brotarbeit.jpg"/>
          <p:cNvPicPr/>
          <p:nvPr/>
        </p:nvPicPr>
        <p:blipFill>
          <a:blip r:embed="rId1"/>
          <a:stretch/>
        </p:blipFill>
        <p:spPr>
          <a:xfrm>
            <a:off x="3505320" y="3124080"/>
            <a:ext cx="318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FA02-652F-49DF-AF92-B6A9CD803CE2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41D7-329F-4EB9-8128-934FC74E166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345680"/>
            <a:ext cx="779292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itler’s economic prior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 Drag Germany out of the world rec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Solve unemployment (which he had promised to 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 Make Germany an “autarchy” – self 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. Get rid of Jewish industrialists and give their businesses to “Arya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 Transform the economy to focus on rearmament and 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15C6-93B2-44D7-BA7C-5394CE8E290C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69F2-6D09-4B7F-A458-1106432E403F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jalmar Sch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acht was President of the Reichsbank who directed German economic poli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believed in steady growth and a stable curr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promoted trade agreements with developing countries trading manufactured goods for cheap raw mater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was against spending out too much on rearmament before the German economy was strong enoug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is New Plan of 1934 aimed to reduce imports into Germany and to strengthen the curr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fell out with Hitler over the speed of rearmament and was replaced by Hermann Goering in 193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99A7-3CC2-493C-A32E-CC5586E841A6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7736-C746-4382-BB23-59E07D207F0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tler’s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rman economy can be converted into a war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rmany must rearm quickly, conquer countries by Blitzkrieg or lightening war, takeover their economies and move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quered countries would give the master race “Lebensraum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y exploiting conquered countries living standards could be maintained at home despite all the money being spent on w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1936 Goering was appointed to introduce a 4 year plan to put Hitler’s ideas into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C:\My Documents\My Pictures\Naziflag.gif"/>
          <p:cNvPicPr/>
          <p:nvPr/>
        </p:nvPicPr>
        <p:blipFill>
          <a:blip r:embed="rId1"/>
          <a:stretch/>
        </p:blipFill>
        <p:spPr>
          <a:xfrm>
            <a:off x="3733920" y="50292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1ACD-C948-458B-9F71-E2BB6305357B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3983-BC38-4549-827B-2ED77789139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395360"/>
            <a:ext cx="779292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he aims of the 4 year Pla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peed up rearmament and make Germany ready for 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ke Germany self sufficient in raw materials “autarchy” by developing home grown substit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51240" y="43848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708440" y="4613400"/>
            <a:ext cx="268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siana"/>
              </a:rPr>
              <a:t>In 1933 total money spent on the military was 1.9 million marks by 1939 it was 32.3 million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3" descr="C:\My Documents\My Pictures\The german hero.gif"/>
          <p:cNvPicPr/>
          <p:nvPr/>
        </p:nvPicPr>
        <p:blipFill>
          <a:blip r:embed="rId1"/>
          <a:stretch/>
        </p:blipFill>
        <p:spPr>
          <a:xfrm>
            <a:off x="1905120" y="4343400"/>
            <a:ext cx="14191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2562-A3C9-496F-8A7C-D2A89943CEF2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BA41-9EAD-4C49-B0E3-F2EA3EC742B1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928800"/>
            <a:ext cx="6095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What were the results of thi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ize of the German army grew massiv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tler became more confident and started to openly break the Treaty of Versai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489480" y="400356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35268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ustria 193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0" y="42591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zechoslovakia 193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315840" y="438156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oland 193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565440" y="52992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ld war broke ou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C:\My Documents\My Pictures\czech38.bmp"/>
          <p:cNvPicPr/>
          <p:nvPr/>
        </p:nvPicPr>
        <p:blipFill>
          <a:blip r:embed="rId1"/>
          <a:stretch/>
        </p:blipFill>
        <p:spPr>
          <a:xfrm>
            <a:off x="1219320" y="441972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00AC-784E-438A-8D86-AA5C439C7A4D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E7D2-0552-4AB2-ACE4-0EDFA0D608C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as the 4 year Plan a succes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employment dropped quickly 4.8 million in 1933 to 0.5 million in 19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ges rose slightly but were still lower in 1938 than they had been in 19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orking hours went up to 49 hours per week in 1939 – 52 hours in 1943 to over 60 hours per week by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were fewer consumer goods (personal and household go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de unions were replaced by “Beauty of Labour” and strength Through Joy” who organised better conditions and leisure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.</cp:lastModifiedBy>
  <dcterms:modified xsi:type="dcterms:W3CDTF">2010-03-12T08:16:45Z</dcterms:modified>
  <cp:revision>10</cp:revision>
  <dc:subject/>
  <dc:title>PowerPoint Presentation</dc:title>
</cp:coreProperties>
</file>